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F846-A936-48D6-A773-50CA3957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A192-8A63-4BB5-9F43-C7976D5E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5EB8-5E4F-4828-8953-A032DB39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2900-D03A-486D-83B8-0EC79A5B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C7100-C3B7-4BA1-8490-581D5841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27B7D-DF95-469F-8127-4E03B23E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4DE82-736C-4A46-8552-DBAB5275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644E5-BE76-46C7-8F7B-218A6CE7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CE575-C9FE-479B-BC63-73CE0949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F5527-81BC-4FB3-AFA8-46FDC8E7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AB5AC-639A-4FFA-B22F-9B1EC894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540D-D09F-4543-8FED-5CF623C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48906-8024-4DAD-B5DA-981A2F08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22BB6-C397-4C8E-A9CD-52F30BC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6C781-78A7-403E-BE7D-FA3CD3F3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E6618-82D8-47E6-8B50-BAF18EB7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A9906-F3CF-4D1E-AB38-BF7D47E3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2096C-2B6B-4303-909C-E08F9B4E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BE321-526C-4322-9FF8-7FB94C9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41B31-544B-4A59-904A-A7F220AF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8C2B7-480C-4654-926F-5D24E105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55324-4010-48CC-930E-E081DEA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C16F-9BDB-41B9-87FE-5E713CFD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8857F-222E-4F2D-ADA3-602131A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D74D9-53A7-4CAD-8E89-AD85FE2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4FE2B-9EB5-4FF1-810A-F5A14E8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6AD4C-1FAA-48CD-AD58-CEC66E4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A6F26-7261-402E-9144-D6574132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73A42-E0FF-4C0E-8BC0-A85EC1B5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48718-B16D-49D5-9BE4-CCC22B71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E587-D956-49DF-8216-CFDC78E2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581B-5C9E-4EE0-84B8-F9A98452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EAF5-886D-4FB8-9124-FDD4CC3C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D84F-0BFA-4FB7-BE72-933BD737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F52E-D2D5-4F62-80F9-38724FD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2738-656A-4D04-B11B-C2CF158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2011-73BB-4FCA-94D2-F69011E3D89D}" type="slidenum">
              <a:rPr b="1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onector drep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ector drep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ector drep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1AC-0D4A-409D-A3D5-15CD8D0A8989}" type="slidenum">
              <a:rPr b="1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ector drep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drep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reptunghi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drep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drep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drep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96E-CEA3-4D84-9654-18453252D952}" type="slidenum">
              <a:rPr b="1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ES T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Arial"/>
              </a:rPr>
              <a:t>É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Arial"/>
              </a:rPr>
              <a:t>É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VISIONS EN FRANC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575f6d"/>
                </a:solidFill>
                <a:latin typeface="Arial Unicode MS"/>
                <a:ea typeface="Arial Unicode MS"/>
              </a:rPr>
              <a:t>CANAL+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5" name="Imagine 6" descr="logo-canal-plus.jpg"/>
          <p:cNvPicPr/>
          <p:nvPr/>
        </p:nvPicPr>
        <p:blipFill>
          <a:blip r:embed="rId1"/>
          <a:stretch/>
        </p:blipFill>
        <p:spPr>
          <a:xfrm>
            <a:off x="2286000" y="0"/>
            <a:ext cx="3276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omic"/>
              </a:rPr>
              <a:t>LES PROGRAMES SONT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Ciném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Séries/Fi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Divertissmen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•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Docs/Inf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Dessins anim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  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missions culturelles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10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mic"/>
              </a:rPr>
              <a:t>AU GRAND JOURNAL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haroni"/>
              </a:rPr>
              <a:t>•</a:t>
            </a:r>
            <a:r>
              <a:rPr b="0" lang="ro-RO" sz="3600" spc="-1" strike="noStrike">
                <a:solidFill>
                  <a:srgbClr val="ff0000"/>
                </a:solidFill>
                <a:latin typeface="Chiller"/>
                <a:ea typeface="Aharoni"/>
              </a:rPr>
              <a:t>Au grand journal 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Bref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Coming nex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Daily Moulou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Kamel le magicia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’envers du d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La boite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question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haroni"/>
              </a:rPr>
              <a:t>La m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 de soluwei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 lie du grand journa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 point com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 sav d’Omar et Fre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app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0" name="Substituent conținut 5" descr="Le_grand_journal_canal_logo.jpg"/>
          <p:cNvPicPr/>
          <p:nvPr/>
        </p:nvPicPr>
        <p:blipFill>
          <a:blip r:embed="rId1"/>
          <a:stretch/>
        </p:blipFill>
        <p:spPr>
          <a:xfrm>
            <a:off x="4603680" y="1600200"/>
            <a:ext cx="2976480" cy="2351160"/>
          </a:xfrm>
          <a:prstGeom prst="rect">
            <a:avLst/>
          </a:prstGeom>
          <a:ln w="0">
            <a:noFill/>
          </a:ln>
        </p:spPr>
      </p:pic>
      <p:pic>
        <p:nvPicPr>
          <p:cNvPr id="151" name="Substituent conținut 6" descr="GRAND_JOURNAL_CANAL_PLUS.jpg"/>
          <p:cNvPicPr/>
          <p:nvPr/>
        </p:nvPicPr>
        <p:blipFill>
          <a:blip r:embed="rId2"/>
          <a:stretch/>
        </p:blipFill>
        <p:spPr>
          <a:xfrm>
            <a:off x="4419720" y="4495680"/>
            <a:ext cx="362088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104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Le Grand Journal</a:t>
            </a: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 est une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é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mission de</a:t>
            </a:r>
            <a:r>
              <a:rPr b="1" i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 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t</a:t>
            </a:r>
            <a:r>
              <a:rPr b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é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l</a:t>
            </a:r>
            <a:r>
              <a:rPr b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é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vision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fran</a:t>
            </a:r>
            <a:r>
              <a:rPr b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ç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aise</a:t>
            </a:r>
            <a:r>
              <a:rPr b="1" i="1" lang="ro-RO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, créée en </a:t>
            </a:r>
            <a:r>
              <a:rPr b="1" i="1" lang="en-US" sz="2800" spc="-1" strike="noStrike" u="sng">
                <a:solidFill>
                  <a:srgbClr val="575f6d"/>
                </a:solidFill>
                <a:uFillTx/>
                <a:latin typeface="Century Schoolbook"/>
              </a:rPr>
              <a:t>septembre2004</a:t>
            </a: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. Elle est diffusée sur 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CANAL+</a:t>
            </a: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 en clair et généralement en direct, du lundi au vendredi de 19h10 à 20h05 puis de 20h25 à 20h55 en direct sur Canal+ et présentée par 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Michael Denisot</a:t>
            </a: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3810240" cy="229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095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74674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Nos enfants cheri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entury Schoolbook"/>
              </a:rPr>
              <a:t>Nos enfants chéris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 est une </a:t>
            </a:r>
            <a:r>
              <a:rPr b="1" lang="ro-RO" sz="2800" spc="-1" strike="noStrike">
                <a:solidFill>
                  <a:srgbClr val="000000"/>
                </a:solidFill>
                <a:latin typeface="Century Schoolbook"/>
              </a:rPr>
              <a:t>série télévisée française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 créé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par Benoît Cohen e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181160" cy="1324080"/>
          </a:xfrm>
          <a:prstGeom prst="rect">
            <a:avLst/>
          </a:prstGeom>
          <a:ln w="0">
            <a:noFill/>
          </a:ln>
        </p:spPr>
      </p:pic>
      <p:pic>
        <p:nvPicPr>
          <p:cNvPr id="159" name="Substituent text 12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432108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2306520" cy="3019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286000"/>
            <a:ext cx="823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iffusée à 2007 sur Ca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+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artir 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ptembr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74674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5f6d"/>
                </a:solidFill>
                <a:latin typeface="Century Schoolbook"/>
              </a:rPr>
              <a:t>La Nouvelle Edition</a:t>
            </a:r>
            <a:endParaRPr b="0" lang="en-US" sz="3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738648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4" name="Substituent text 12" descr=""/>
          <p:cNvPicPr/>
          <p:nvPr/>
        </p:nvPicPr>
        <p:blipFill>
          <a:blip r:embed="rId1"/>
          <a:stretch/>
        </p:blipFill>
        <p:spPr>
          <a:xfrm>
            <a:off x="4800600" y="0"/>
            <a:ext cx="3827520" cy="5105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40957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029200" cy="3124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4219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86200" y="3143160"/>
            <a:ext cx="4971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Zap Spo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24280" y="1144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4610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Pourquoi cette cha</a:t>
            </a: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î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ne 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a cha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 est tr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 int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ssant et il a des programmes belle.Il a des reporters tres qualifi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l nous aide 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à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lons et il nous apprende fran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is.La cha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 nous inform</a:t>
            </a:r>
            <a:r>
              <a:rPr b="0" lang="ro-RO" sz="2800" spc="-1" strike="noStrike">
                <a:solidFill>
                  <a:srgbClr val="000000"/>
                </a:solidFill>
                <a:latin typeface="Century Schoolbook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sur les nouvelles du Fran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resan adrian</cp:lastModifiedBy>
  <dcterms:modified xsi:type="dcterms:W3CDTF">2011-10-30T16:48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